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769-E7F8-46B3-BCC6-5DA17128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FFC-BA4B-45A5-AAFE-8F233F9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74F-45EF-4C86-B032-4120A277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F8C-0C89-4047-AF4D-10FA5448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B4F0-82E0-4D62-9C0F-2917459B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1C7B-C2AB-4EC9-AF0D-E84A1EA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758-90A9-4E17-993E-F437B45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A597-872E-4736-83EA-BCF9525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A8FB-54A0-424F-A047-C68FB55A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0058-5369-4D29-A871-1D20966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8DB5-4F45-4AAD-A13A-7E2E3981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443-69F0-450A-9C5A-7A58B77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11A0-4F2E-457F-A41D-30EA305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1824-7033-46FB-A740-66B9225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A30A-11E7-43CB-AE87-21C497B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CD33-1723-454A-B186-D47C9EFB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B30C-AD9B-4033-8CC8-38A0AFFF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CED-DE6B-4657-B051-C44E61DB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ECE-256B-4FD2-8B05-14200CBC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D9E-8502-48D3-84EA-E981BE48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EDB-712B-4067-8B3B-4449C415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83E-5AB5-49F6-A5C9-651948D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002-CA54-43FC-9CED-027B591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E80-6176-4AC5-A753-BBE5A3B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823-9754-4BBE-ADC1-5328F41442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10B9-846A-47CC-B918-B8359FE1E2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Comic Sans MS"/>
              </a:rPr>
              <a:t>¡Las Comidas 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antha Lyn Conn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El Dasayu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el desayuno me gusta com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ofres de chocolate chip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Chocolate con lech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Tocino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 Los huevos y has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Bacon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124080" y="52578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4771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8006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Comic Sans MS"/>
              </a:rPr>
              <a:t>El Alm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el almuerzo me gusta com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nsalada,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Sush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Chocolate con lech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Hamburguesa con queso y toci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Papas frit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24080" y="5486400"/>
            <a:ext cx="134316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24480" y="5486400"/>
            <a:ext cx="219096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49568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Comic Sans MS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la cena me gusta com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hili perro ques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Una coca col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Papas frita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Fruta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Brócoli y ques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Chili Cheese Dog"/>
          <p:cNvPicPr/>
          <p:nvPr/>
        </p:nvPicPr>
        <p:blipFill>
          <a:blip r:embed="rId1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971800" y="556272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724280" y="55627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324480" y="5562720"/>
            <a:ext cx="198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23Z</dcterms:created>
  <dc:creator>connerysam</dc:creator>
  <dc:description/>
  <dc:language>en-US</dc:language>
  <cp:lastModifiedBy>connerysam</cp:lastModifiedBy>
  <dcterms:modified xsi:type="dcterms:W3CDTF">2011-04-14T14:43:26Z</dcterms:modified>
  <cp:revision>4</cp:revision>
  <dc:subject/>
  <dc:title>Las Comidas !</dc:title>
</cp:coreProperties>
</file>